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844EABD-56F0-46A3-A863-F4F6D2E5B3A8}"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6E0EF279-00DB-4F22-837A-DD536EFC4C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1E557735-5AF0-4C4C-A98C-6254415188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75B6E7E8-85D1-4108-88A8-340C186B5E1C}"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4A80B90-8899-4046-87DB-8C3F2ED72D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E39E9FD-B085-4807-9751-945A98E7CC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DDD9460C-C56E-4F5E-AE47-9C7016B2C5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7EC9C30F-619F-4674-9F53-78FAD16895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BD434937-4D31-4287-91B6-FC4E71590F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78E7D67-424C-4541-A155-16BA2AE682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5BD4C34-0F00-4549-AD88-CA68C462F8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E6FB9FE-B67D-4BD0-90C8-F80706818343}"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47ED2-6968-43CF-ACCC-1BC69F872F2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 guide to CEDV parameters calculation in MathCa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73" name="PlaceHolder 2"/>
          <p:cNvSpPr>
            <a:spLocks noGrp="1"/>
          </p:cNvSpPr>
          <p:nvPr>
            <p:ph/>
          </p:nvPr>
        </p:nvSpPr>
        <p:spPr>
          <a:xfrm>
            <a:off x="3276360" y="1143000"/>
            <a:ext cx="5715000" cy="449568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74" name="" descr=""/>
          <p:cNvPicPr/>
          <p:nvPr/>
        </p:nvPicPr>
        <p:blipFill>
          <a:blip r:embed="rId1"/>
          <a:stretch/>
        </p:blipFill>
        <p:spPr>
          <a:xfrm>
            <a:off x="685800" y="1066680"/>
            <a:ext cx="2495520" cy="50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76" name="" descr=""/>
          <p:cNvPicPr/>
          <p:nvPr/>
        </p:nvPicPr>
        <p:blipFill>
          <a:blip r:embed="rId1"/>
          <a:stretch/>
        </p:blipFill>
        <p:spPr>
          <a:xfrm>
            <a:off x="1835280" y="1197000"/>
            <a:ext cx="5400720" cy="490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78" name="" descr=""/>
          <p:cNvPicPr/>
          <p:nvPr/>
        </p:nvPicPr>
        <p:blipFill>
          <a:blip r:embed="rId1"/>
          <a:stretch/>
        </p:blipFill>
        <p:spPr>
          <a:xfrm>
            <a:off x="1871640" y="1260360"/>
            <a:ext cx="5400720" cy="433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80" name="" descr=""/>
          <p:cNvPicPr/>
          <p:nvPr/>
        </p:nvPicPr>
        <p:blipFill>
          <a:blip r:embed="rId1"/>
          <a:stretch/>
        </p:blipFill>
        <p:spPr>
          <a:xfrm>
            <a:off x="1871640" y="1125360"/>
            <a:ext cx="4724280" cy="505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8T15:31:50Z</dcterms:created>
  <dc:creator>Evgenij Barsoukov</dc:creator>
  <dc:description/>
  <dc:language>en-US</dc:language>
  <cp:lastModifiedBy>Evgenij Barsoukov</cp:lastModifiedBy>
  <dcterms:modified xsi:type="dcterms:W3CDTF">2004-06-18T15:33:40Z</dcterms:modified>
  <cp:revision>1</cp:revision>
  <dc:subject/>
  <dc:title>Simple guide to CEDV parameters calculation in MathCad</dc:title>
</cp:coreProperties>
</file>